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A3A-8D15-4F82-BE71-62F2FE6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CCF-E901-473C-B5A3-37908934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D16-882F-429E-9EE8-9E5CCB52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442-5976-4571-9EFD-AA1FF44B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B8C-428C-44E9-AA32-DCF408E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04B-38AB-40C9-A541-1F902547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433-C504-4DAE-AE0C-61E6DD0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A70-AAE6-4584-8D3D-F61D4CF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4B9-E7F7-44E9-9D18-682694C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FAE-5322-4571-9686-2C8F5DB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AE9-89F2-4F00-B05A-D832FC0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7AB-1A85-49AE-9294-C5AC448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3D00-8312-49A5-BF73-9F88EC4C4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33:33Z</dcterms:created>
  <dc:creator>abeason</dc:creator>
  <dc:description/>
  <dc:language>en-US</dc:language>
  <cp:lastModifiedBy>abeason</cp:lastModifiedBy>
  <dcterms:modified xsi:type="dcterms:W3CDTF">2009-10-19T14:33:44Z</dcterms:modified>
  <cp:revision>1</cp:revision>
  <dc:subject/>
  <dc:title>Slide 1</dc:title>
</cp:coreProperties>
</file>